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4937-7FE0-4FAF-A498-A6AC67F99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6EB4-52BD-458A-A557-A2C9D564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2CC2-570D-47BC-BC87-3E8869284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3AAC-ABF0-434F-8A78-56026063B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BE52-96C9-45C0-A324-BDACB2D5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EF0B-367C-46ED-AF64-64A4AAC1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7E74-9E7E-4A74-9944-CD57BDF3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B5D5-AA94-44C4-A8AA-3A77570B9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51EA-6E65-49B2-9CED-56A69FBD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C419-7084-4B87-8720-4BE0D5BB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ED01-7659-4C76-B2C2-2D1420DD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806E-BE42-4B33-AFB6-EFBC426C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72A3-978F-4B2F-BF42-C31A38D5EB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17607cca5970t"/>
          <p:cNvPicPr/>
          <p:nvPr/>
        </p:nvPicPr>
        <p:blipFill>
          <a:blip r:embed="rId1"/>
          <a:stretch/>
        </p:blipFill>
        <p:spPr>
          <a:xfrm>
            <a:off x="0" y="-171360"/>
            <a:ext cx="9448920" cy="7539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. Как вы думаете, почему химические волокна получили такое название?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 Почему возникла необходимость в получении химических волокон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1402264575-oboi-1920h1080"/>
          <p:cNvPicPr/>
          <p:nvPr/>
        </p:nvPicPr>
        <p:blipFill>
          <a:blip r:embed="rId1"/>
          <a:stretch/>
        </p:blipFill>
        <p:spPr>
          <a:xfrm>
            <a:off x="-812880" y="-304920"/>
            <a:ext cx="107650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374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нашего пох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47640" y="268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Дать представление о видах химических волок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Раскрыть классификацию химических волокон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ознакомится  с технологией производства искусственных волок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Научится определять вид волокна по внешним призна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914400" y="743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5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тема урока </a:t>
            </a: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«Виды и свойства химических волокон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2880" y="0"/>
            <a:ext cx="835344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фикация химических воло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11160" y="1049400"/>
            <a:ext cx="88711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motto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00" y="246240"/>
            <a:ext cx="97851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дная таблиц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всем исследованным тканя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-4680" y="1390680"/>
          <a:ext cx="9753480" cy="6405480"/>
        </p:xfrm>
        <a:graphic>
          <a:graphicData uri="http://schemas.openxmlformats.org/drawingml/2006/table">
            <a:tbl>
              <a:tblPr/>
              <a:tblGrid>
                <a:gridCol w="474480"/>
                <a:gridCol w="2586240"/>
                <a:gridCol w="1577880"/>
                <a:gridCol w="152280"/>
                <a:gridCol w="1403640"/>
                <a:gridCol w="1779480"/>
                <a:gridCol w="1779480"/>
              </a:tblGrid>
              <a:tr h="7002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Характерные признаки определения ткан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Показатели признаков ткане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коз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це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п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т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60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е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99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ость поверх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роховат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92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ст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93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инаем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ыпаем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 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62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ность в мокром состоян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52" name="Rectangle 4"/>
          <p:cNvSpPr/>
          <p:nvPr/>
        </p:nvSpPr>
        <p:spPr>
          <a:xfrm>
            <a:off x="11160" y="623520"/>
            <a:ext cx="14735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знаки определения искусственных и синтетических тканей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900000" y="1197000"/>
            <a:ext cx="7786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чему в гардеробе современного человека очень трудно найти вещь, изготовленную из натурального волок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539640" y="6086520"/>
            <a:ext cx="184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kartinkija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"/>
          <p:cNvSpPr/>
          <p:nvPr/>
        </p:nvSpPr>
        <p:spPr>
          <a:xfrm>
            <a:off x="539640" y="2276640"/>
            <a:ext cx="8158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рисовать эскиз модели швейного изделия из химических ткан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1T14:50:12Z</dcterms:created>
  <dc:creator>Пользователь</dc:creator>
  <dc:description/>
  <dc:language>en-US</dc:language>
  <cp:lastModifiedBy>Пользователь</cp:lastModifiedBy>
  <dcterms:modified xsi:type="dcterms:W3CDTF">2018-09-28T07:15:26Z</dcterms:modified>
  <cp:revision>6</cp:revision>
  <dc:subject/>
  <dc:title>Слайд 1</dc:title>
</cp:coreProperties>
</file>